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E2FC-FFC8-4F3E-AB47-6D4C36B943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BFB-978E-4E3E-8381-86CE86540B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6B37-32B5-4C26-B257-B1D4FF40F9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9AB-EBBE-4FDC-B731-A4FC5BEDAA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FB3C-489B-4379-B195-28151BF453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90F-8D1E-4F71-AD24-FA41F9B5DF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2E8-B826-4DA9-8761-BDC5A05EB9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C407-7BFB-44D2-AFB1-04A9A9D205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217-42BB-41FE-BAD3-AFB688F5EA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9B9-9D14-4DB2-AF90-115A77B85A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CC4-7C28-4806-A2C5-7B2473A843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4779-8951-4A62-A285-02590FEE54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A86-D8C2-4C84-BDBA-3FF594B85C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7AE7-9982-4577-9F18-2206E1C2F8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4939-7C5E-4ABE-8CA9-24B155950A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133B-0AB1-40B3-B54A-6051BA6732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0C5E-9A59-4900-8F80-40538BD565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08D-AB36-46AC-B121-7F91C65D46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38E-A5E8-40E4-A0B3-735D0F1669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78E-F639-41AE-8DFA-7374E1737E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738-B6C8-4789-ABAA-459247EA54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CEBC-06DC-45A1-B6BD-FC4CFC4A14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549-06DD-417C-8832-37E51BC4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504-CA30-4E42-B3C0-6C4416B4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063-FCF0-48D4-A292-B4A2C007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37D-33EF-4A01-BC53-BF323E78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C67-C3E4-43BD-89A4-06C4C79F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AF6-37E3-4174-B19A-484A0B3E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537-1FA1-4FE0-85B8-717F5DC8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A0E-783F-4800-B40C-E581F77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8CD-C7A5-4F2F-84FF-602B5D41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C7B-34AF-48A2-88A2-F35D589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AFB-FC82-4A7D-B5F2-95A1246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B75-D232-4EBD-AE7B-49535CC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E81E-2343-4BD5-BAEF-C0E762B5FB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7775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ild poverty and social exclusion in Scotland</a:t>
            </a:r>
            <a:br>
              <a:rPr sz="41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Gill M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niversity of York</a:t>
            </a:r>
            <a:br>
              <a:rPr sz="2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cotland People’s Centre, Edinbur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August 20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700360" y="56815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and the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Box 2"/>
          <p:cNvSpPr/>
          <p:nvPr/>
        </p:nvSpPr>
        <p:spPr>
          <a:xfrm>
            <a:off x="2411280" y="333360"/>
            <a:ext cx="59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y by ownership/participation – just necessities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hart 3" descr=""/>
          <p:cNvPicPr/>
          <p:nvPr/>
        </p:nvPicPr>
        <p:blipFill>
          <a:blip r:embed="rId3"/>
          <a:stretch/>
        </p:blipFill>
        <p:spPr>
          <a:xfrm>
            <a:off x="609480" y="1841400"/>
            <a:ext cx="78519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44400" y="1052640"/>
            <a:ext cx="81360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18 children living in Sco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e adult in household asked to indicate whether any child in their household lacks items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ly items lacked through being unable to afford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l children considered deprived if any child lacks and can’t aff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ge adjustments for some items/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ems/activities subject to validity, reliability and additivity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ong with income data, used to produce indicator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privation (separate child and adult ind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 income (household, applied to all individuals within h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SE Poverty (single indicator drawing on individu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privation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 inco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SE method – Main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44400" y="1052640"/>
            <a:ext cx="813600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rates of lacking items/activities through being unable to afford Scotland vs Ro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patterns in terms of what is most/least likely to be l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em least likely: three meals (Scotland: 0%; RoUK: 1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ems most likely: Pocket money (Scotland:12%; RoUK: 16%)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drooms (Scotland 13%; RoUK 11%); Money to s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Scotland: 30%; RoUK 3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tivity least likely: celebrations on special occas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Scotland: 1%; RoUK: 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tivities most likely: Day trips with family (Scotland: 17%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UK: 21%); Annual holiday (Scotland: 26%; RoUK: 2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l items/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privation - over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Chart 4" descr=""/>
          <p:cNvPicPr/>
          <p:nvPr/>
        </p:nvPicPr>
        <p:blipFill>
          <a:blip r:embed="rId3"/>
          <a:stretch/>
        </p:blipFill>
        <p:spPr>
          <a:xfrm>
            <a:off x="682560" y="1407960"/>
            <a:ext cx="77788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privation -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Chart 5" descr=""/>
          <p:cNvPicPr/>
          <p:nvPr/>
        </p:nvPicPr>
        <p:blipFill>
          <a:blip r:embed="rId3"/>
          <a:stretch/>
        </p:blipFill>
        <p:spPr>
          <a:xfrm>
            <a:off x="755640" y="1335240"/>
            <a:ext cx="75596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1280" y="3333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w income (&lt;60% median, PSE equivalis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16000" y="1628640"/>
          <a:ext cx="6912000" cy="4503960"/>
        </p:xfrm>
        <a:graphic>
          <a:graphicData uri="http://schemas.openxmlformats.org/drawingml/2006/table">
            <a:tbl>
              <a:tblPr/>
              <a:tblGrid>
                <a:gridCol w="3162240"/>
                <a:gridCol w="1125720"/>
                <a:gridCol w="1125360"/>
                <a:gridCol w="749520"/>
                <a:gridCol w="749160"/>
              </a:tblGrid>
              <a:tr h="831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lative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divid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d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 without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 with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4400" y="1052640"/>
            <a:ext cx="813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1280" y="3333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SE poverty (3+ deprivations, below income 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1628640"/>
          <a:ext cx="7848360" cy="4873680"/>
        </p:xfrm>
        <a:graphic>
          <a:graphicData uri="http://schemas.openxmlformats.org/drawingml/2006/table">
            <a:tbl>
              <a:tblPr/>
              <a:tblGrid>
                <a:gridCol w="2881080"/>
                <a:gridCol w="1622520"/>
                <a:gridCol w="1514520"/>
                <a:gridCol w="968400"/>
                <a:gridCol w="861840"/>
              </a:tblGrid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lative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divid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d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dult-only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ouseholds with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644400" y="1268280"/>
            <a:ext cx="8136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igher rates of PSE poverty associated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a workless household (odds: 4.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lone-adult households (odds: 4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socially-rented accommodation(odds:18.7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 ‘other’ (not owner or social rented) (odds: 16.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PSE poor childr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households with at least one adult in full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me work (4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two-adult households (5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ving in socially rented accommodation (62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isk factors and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44400" y="1052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1280" y="33336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tra-household sharing (depriv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71640" y="1519200"/>
          <a:ext cx="7488000" cy="1854360"/>
        </p:xfrm>
        <a:graphic>
          <a:graphicData uri="http://schemas.openxmlformats.org/drawingml/2006/table">
            <a:tbl>
              <a:tblPr/>
              <a:tblGrid>
                <a:gridCol w="3863880"/>
                <a:gridCol w="2112840"/>
                <a:gridCol w="1511280"/>
              </a:tblGrid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ren not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ren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adults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 adults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 adults not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adults depr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2"/>
          <p:cNvSpPr/>
          <p:nvPr/>
        </p:nvSpPr>
        <p:spPr>
          <a:xfrm>
            <a:off x="900000" y="3645000"/>
            <a:ext cx="75596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stics of adults who go without when children do no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ents (composition: 95%; rate: 81%; odds: 5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men (composition: 68%; rate: 88%; odds: 4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 carer (composition: 61%; rate: 98%; odds: 40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ignificant differences by age group, employment status, ethn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tra-household sharing - econom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24000" y="1397160"/>
          <a:ext cx="8456400" cy="4957560"/>
        </p:xfrm>
        <a:graphic>
          <a:graphicData uri="http://schemas.openxmlformats.org/drawingml/2006/table">
            <a:tbl>
              <a:tblPr/>
              <a:tblGrid>
                <a:gridCol w="3663720"/>
                <a:gridCol w="1135080"/>
                <a:gridCol w="1135080"/>
                <a:gridCol w="1260360"/>
                <a:gridCol w="1262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onomising behavi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s in households with poor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useholds containing poor children (at least one ad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mped on food so others could have en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ght second hand clothes instead of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d to wear worn-out clot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 back on visits to hairdresser/bar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d visits to dent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nt less on hobb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 back on social visits, going to the pub, eating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644400" y="1052640"/>
            <a:ext cx="813600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of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vious P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rability with F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ems identified by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ults (aged 16+) asked to indicate whether item/s activities were necessities for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ems deemed necessities if 50%+ of adults say children need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otland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011 Scotland survey: 465 respon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012 Britain survey: 111 respon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411280" y="33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SE method – Attitudes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644400" y="1052640"/>
            <a:ext cx="813600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SE poor children more likely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 injured or have an accident at home requiring A&amp;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eatment; odds: 4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bullied; odds: 2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special educational needs; odds: 5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SE poor children more likely to live with adults wh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ck social support; odds: 4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all workless; odds: 6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all unemployed; odds: 14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one is unemployed; odds: 7.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ded from social participation; odds: 4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ded from political participation; odds: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SE poor children no more likely to live with adults lacking daily contact with family/fri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4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verty and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644400" y="1052640"/>
            <a:ext cx="81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consensus on necessities of life for children – Scotland vs RoUK and other sub-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inimal differences in deprivation, low income and PSE poverty between Scotland and RoUK for children or households with children, but lower overall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 perception of necessities is relative – but not just re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klessness and lone parenthood increase risk of poverty, but most poor children in households with at least one adult in full time work and with two adults; no evidence of ‘skivers’ or ‘broken’ families as root causes of pov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evidence of parental ‘fecklessness’ or prioritising of own needs – rather, adults living with children go without to protect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ild poverty associated with a range of negative outcomes for children, and children living in poverty likely to live with adults experiencing social excl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11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ies: Scotland vs. Ro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Box 1"/>
          <p:cNvSpPr/>
          <p:nvPr/>
        </p:nvSpPr>
        <p:spPr>
          <a:xfrm>
            <a:off x="644400" y="1400040"/>
            <a:ext cx="8136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ld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7 out of 22 selected as necessities over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dentical list selected by 2011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5 of these 17 selected by 2012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il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7 out of 8 selected as necessities over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l 8 selected as necessities by 2011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dentical list to overall selected as necessities by 2012 Scottish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two significant differences between Scottish and RoUK respondents in % seeing items/activities as neces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mputer and internet: 67% (RoUK), 56% (Scotland 2011)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RR:0.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hildren’s clubs/activities: 74% (RoUK), 80% (Scotland 2011)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RR:1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ies: Scotland vs. Ro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5280" y="1341360"/>
          <a:ext cx="8209080" cy="5486400"/>
        </p:xfrm>
        <a:graphic>
          <a:graphicData uri="http://schemas.openxmlformats.org/drawingml/2006/table">
            <a:tbl>
              <a:tblPr/>
              <a:tblGrid>
                <a:gridCol w="4248000"/>
                <a:gridCol w="936720"/>
                <a:gridCol w="1513080"/>
                <a:gridCol w="1511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winter co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 fruit/veg once a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, properly fitting sh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e meals a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den or outdoor 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ks at home suitable for their 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t, fish or equivalent once a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itable place at home to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or g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droom for every child over 10 of a different s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/internet for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new, not second hand, clot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door leisure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least four pairs trousers/simi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to s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cket mo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 t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2411280" y="33336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ies: Scotland vs. Ro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95280" y="1695600"/>
          <a:ext cx="8209080" cy="4111560"/>
        </p:xfrm>
        <a:graphic>
          <a:graphicData uri="http://schemas.openxmlformats.org/drawingml/2006/table">
            <a:tbl>
              <a:tblPr/>
              <a:tblGrid>
                <a:gridCol w="4248000"/>
                <a:gridCol w="936720"/>
                <a:gridCol w="1513080"/>
                <a:gridCol w="1511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tland (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ebrations on special occa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bby or leisure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group/nursery/toddler group once a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ren’s clubs/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trips with family once a 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trip once a te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 away from home once a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ends round for tea/snack once a fortn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Box 2"/>
          <p:cNvSpPr/>
          <p:nvPr/>
        </p:nvSpPr>
        <p:spPr>
          <a:xfrm>
            <a:off x="2411280" y="333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ces by sub-group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3"/>
          <a:stretch/>
        </p:blipFill>
        <p:spPr>
          <a:xfrm>
            <a:off x="426960" y="1212840"/>
            <a:ext cx="78883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Box 2"/>
          <p:cNvSpPr/>
          <p:nvPr/>
        </p:nvSpPr>
        <p:spPr>
          <a:xfrm>
            <a:off x="2411280" y="333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anges in perceptions over time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46040" y="1916280"/>
          <a:ext cx="8229600" cy="3786120"/>
        </p:xfrm>
        <a:graphic>
          <a:graphicData uri="http://schemas.openxmlformats.org/drawingml/2006/table">
            <a:tbl>
              <a:tblPr/>
              <a:tblGrid>
                <a:gridCol w="6502320"/>
                <a:gridCol w="936720"/>
                <a:gridCol w="79056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Item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Fresh fruit or vegetables at least once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 garden or outdoor space nearby where they can play safe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(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eat, fish or vegetarian equivalent at least once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omputer and internet for home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(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Some new, not second hand, clot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t least four pairs of trousers, leggings, jeans or jogging botto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oing on a school trip at least once a ter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onstruction toy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 holiday away from home for at least one week a ye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Friends round for tea or a snack once a fortn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A bicyc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Box 2"/>
          <p:cNvSpPr/>
          <p:nvPr/>
        </p:nvSpPr>
        <p:spPr>
          <a:xfrm>
            <a:off x="2411280" y="333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anges in perceptions over time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3"/>
          <a:stretch/>
        </p:blipFill>
        <p:spPr>
          <a:xfrm>
            <a:off x="469800" y="1195560"/>
            <a:ext cx="80647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3"/>
          <p:cNvGraphicFramePr/>
          <p:nvPr/>
        </p:nvGraphicFramePr>
        <p:xfrm>
          <a:off x="250920" y="189000"/>
          <a:ext cx="20890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Box 2"/>
          <p:cNvSpPr/>
          <p:nvPr/>
        </p:nvSpPr>
        <p:spPr>
          <a:xfrm>
            <a:off x="2411280" y="33336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erceptions of necessity by ownership/participation – all (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9" descr=""/>
          <p:cNvPicPr/>
          <p:nvPr/>
        </p:nvPicPr>
        <p:blipFill>
          <a:blip r:embed="rId3"/>
          <a:stretch/>
        </p:blipFill>
        <p:spPr>
          <a:xfrm>
            <a:off x="426960" y="1212840"/>
            <a:ext cx="7815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10:08:56Z</dcterms:created>
  <dc:creator>User</dc:creator>
  <dc:description/>
  <dc:language>en-US</dc:language>
  <cp:lastModifiedBy>User</cp:lastModifiedBy>
  <cp:lastPrinted>2014-08-13T11:53:19Z</cp:lastPrinted>
  <dcterms:modified xsi:type="dcterms:W3CDTF">2014-08-31T10:20:18Z</dcterms:modified>
  <cp:revision>69</cp:revision>
  <dc:subject/>
  <dc:title>The Extent of Poverty in the UK</dc:title>
</cp:coreProperties>
</file>